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61A-3A35-44DD-B482-4458E488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0A3-1EC1-4014-AD84-797CA311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182B-E0B0-4C37-AD61-01B23042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D47-BABD-404C-8BC6-1D7617E0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36B-79DF-4814-9C12-D563A142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456D-7B89-4536-8ACB-0CAC113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2EB-76FC-40E9-BF06-8F0641D2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AB2-FC51-4CF4-9280-AC33C3C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07C8-730F-4E19-B6FA-2C99FCC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4E0-7A49-4D0A-98D2-03413190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D976-B800-4DE3-B6F5-9A306A49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6BD-5766-42AD-93DA-7EDD8D51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7894-4A15-4090-8685-5A7262E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1EFE-96B1-4694-80C8-2145805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6B4-A8B7-4BAC-92F5-9B80CFA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230-7DF6-481A-8336-2DF53467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3BFC-27D3-421D-828F-1B1B2CEE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56F-B5C1-47E8-B659-08326C71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B5E-4E44-4311-B2A0-EB9A233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192-7422-43B7-A92B-2DEEC96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D6C-2DCC-4D43-91DE-972CC4AA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01A-61AC-4B55-864B-FC2FC4B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964-0DA0-47D7-B397-6B27988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358-AF32-4C07-8175-FD293D1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270D-06BE-41CC-9911-BC1CD3EF6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5D8-509E-486F-975E-E6738C5C0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ff00"/>
                </a:solidFill>
                <a:latin typeface="Times New Roman"/>
              </a:rPr>
              <a:t>Тақырып 2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700280"/>
            <a:ext cx="8540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ff"/>
                </a:solidFill>
                <a:latin typeface="Times New Roman"/>
              </a:rPr>
              <a:t>Өлшем бірлігін мемлекеттік қамтамасыз ету жүйесі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өлшеу бірлігін қамтамасыз ету бойынша іс-әрекеттердің басқаруды тиімді принциптерін зерттеп дайындау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шамалар бірліктерінің эталондарын жасау мен жетілдіру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метрология саласындагы негізгі түсініктемелер, терминдер және анықтамаларын бекіту;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60280"/>
            <a:ext cx="82072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Р МӨЖ негізгі мақсаттарына келесілер жатады: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өлшеу бірлігін қамтамасыз ету бойынша нормативті базасын жасау және жетілдіру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метрология саласындағы ережелер, нормалар мен талап- тарды халықаралық, мемлекетаралық, аймақтық және ұлттық ережелер нормалары жэне талаптармен үйлестіру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өлшеу сапасын ақпаратты қамтамасыз ету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өлшеу нэтижесі ҚР аумағында қолдануға заңдастырылып рүқсат етілген шама бірліктерімен жазылуы керек;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- өлшеуді берілген ықтималдық қойылған ійегінде жататын қателікпен іске асыру;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- шама бірліктер мөлшерлерін шамалар бірліктер эталонынан өлшеу қүралдарына беру;</a:t>
            </a:r>
            <a:br>
              <a:rPr sz="3200"/>
            </a:b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- өлшеу бірлігін қамтамасыз ету бойынша іс-әрекеттерді заң мен нормативті қүжаттарға сәйкес жүргізу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60280"/>
            <a:ext cx="82072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Р ӨМЖ негізгі принциптеріне келесілер жатады: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ҚР ӨМЖ объектілеріне келесілер жатады: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шама бірліктері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шама бірліктерінің эталондары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өлшеу қүралдары, әдістемелер жэне өлшеу нэтижелеріне қойылатын талаптар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өлшеуді орындау әдістемесі;</a:t>
            </a:r>
            <a:br>
              <a:rPr sz="3600"/>
            </a:b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- нормативті қүжаттар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260280"/>
            <a:ext cx="82072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ҚР ӨБМҚЖ объектілері мен нормативтік құжатта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Шамалар бірліктері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         Қазақстан Республикасының аумағында Халықаралық бірлік жүйесінің шамалар бірліктері қолданылады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Өлшемдер шамаларының эталондары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ҚР ӨМЖ техни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лық негізін, шама бірліктер мемлекеттік эталондары қүрайды, олардың жасалынуы мен қ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мын мемлекет іске асырады. Мемлекеттік эта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ндар шама бірліктерін сақтау мен қайта жаңғырту </a:t>
            </a:r>
            <a:r>
              <a:rPr b="1" lang="kk-KZ" sz="3600" spc="-1" strike="noStrike">
                <a:solidFill>
                  <a:srgbClr val="ffffff"/>
                </a:solidFill>
                <a:latin typeface="Times New Roman"/>
              </a:rPr>
              <a:t>ү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ін керек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Өлшеу күралдар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ҚР қолдануға рүқсат етілген шама бірліктерін анықтауға қолданылады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Өлшеуді орындау әдістемесі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мемлекеттік метрологиялық қадағалау саласында қолданылады.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ҚР ӨМЖ нормативті қ</a:t>
            </a: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ұ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жаттары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       ҚР аумағында міндетті түрде қолданылады, оны стандарттау, метрология және сертификаттау бойынша уэкілдік орган бекітеді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Р ӨМЖ өзінше Қазақстан Республнкасында өлшеудің керекті дәлдігі мен бірлігіне жету мен ұстауға арналған ұйымдастыру, техникалық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нормативті негізінің жинағы болады.ҚР ӨМЖ ұйымдастырумылық негізін Қазақстан Республикасының метрологиялық қызметін құрай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азақстан Республикасының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ө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шеу бірлігін қамтамасыз етудің мемлекеттік басқарылуын Қазақстан Республикасының стандарттау, метрология жэне сертификаттау бойынша у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ілдік органга міндеттеледі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Р ӨМЖ техникалық негізіне келесілер жатады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шама бірліктер мемлекетгік эталондар жүйесі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у құралдары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стандартты анықтамалық берілгендері;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78544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ҚР ӨМЖ нормативті қркаттар келесіге бөлінеді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гізін салушы жалпы талаптар, ережелер жэне нормалар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удің бір түріндегі ережелер мен нормалар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ҚР ӨМЖ нормативті қүжаттарын зерттеп дайындау және жетілдіру: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ҚР шама бірлік мемлекеттік эталондарын жасау, жетілдіру эталондарын сақтау және қолдану;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2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Мақсаты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Студенттерді өлшем бірлігін мемлекеттік қамтамысз ету жүйесімен таныстыр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276640"/>
            <a:ext cx="29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Жоспар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3068640"/>
            <a:ext cx="8756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1. Өлшем бірлігін мемлекеттік қамтамасыз ету жүйесі туралы түсіні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2. ҚР ӨБМҚЖ негізгі мақсатары мен принциптер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3. ҚР ӨБМҚЖ объектілері мен нормативтік құжатта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70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у қүралдарының бірыңгайлылығын қамтамасыз ет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уді орындау әдістемесін метрологиялық аттестатта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м бірлігін қамтамасыз ету бойынша іс-әрекеттерін лицензияла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млекеттік метрологиялық қадағалау мен бақыла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ақпараттық қамтамасыз ету;</a:t>
            </a:r>
            <a:br>
              <a:rPr sz="4000"/>
            </a:b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- өлшеу бірлігін қамтамасыз ету саласында квалификациясын орнату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Өлшеу бірлігі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бұл олардың нәтижелері заңдастырылған бірлік шамаларымен көрсетілген ж</a:t>
            </a: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өлшеу қателігі берілген ықтималдығы қойылған шектерде жатуымен сипатталатын өлшеудің жағдай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Өлшеу бірлігін қамтамасыз ету (ӨБҚ)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- бұл өлшеу бірлігін заңды актілерге сәйкестілігіне жету мен қолдауға бағытталған метрологиялық қызметтің іс-әрекет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Өлшем бірлігін мемлекеттік қамтамасыз ету жүйесі туралы түсінік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Өлшеу бірлігін қамтамасыз етудің 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негізгі мақсаты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- ол Қазақстан Республикасының азаматтары мен экономикасының сұраныстарын сенімді емес өлшеу нәтижелерінен сақта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Өлшеу бірлігін қамтамасыз етудің 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басқа мақсаттарына келесілер</a:t>
            </a:r>
            <a:r>
              <a:rPr b="1" lang="kk-KZ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жатады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отандық жэне импортталған өнімдердің қауіпсіздігі мен сапасы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фундаменталды зертеулердегі өлшеу сенімділіг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материал және энергия ресурстарының сенімді есептелуі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k-KZ" sz="3000" spc="-1" strike="noStrike">
                <a:solidFill>
                  <a:srgbClr val="ffffff"/>
                </a:solidFill>
                <a:latin typeface="Times New Roman"/>
              </a:rPr>
              <a:t>қоршаған ортаны қорғау, адам өмірі мен еңбек қауіпсіздігі және т.б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1680" y="76500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Қазақстан Республикасының өлшеу бірлігін қамтамасыз етудің мемлекеттік жүйесі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Қазақстан Республикасының өлшеу бірлігін қамтамасыз ету бойынша субъектілер, нормалар, қүралдар жэне іс 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кеттер түрлерін басқарудың мемлекеттік жүйесі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«Өлшеу ақпараты»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деген түсінік өзінше заттар, материалдар, бүйымдар, үрдістер қасиетгері туралы техникалық қүралдармен тэжірибе жолымен алынған санды сипаттамалардың кез келген түрін қамтиды.</a:t>
            </a:r>
            <a:r>
              <a:rPr b="1" lang="ru-RU" sz="36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үл өлшеу ақпараттық қателікті анықтаудың бірыңғайлылығын және дұрыстығын қамтамасыз ету мүмкіндігш жасауға бағытталған метролоғияның іс-эрекеттері, ол өлшеу бірлігін қамтамасыз ету болып табыла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Қазіргі кезде өлшеудің мемлекеттік жүйесі (МӨЖ), ол - өлшеу бірлігін қамтамасыз ету бойынша субъектілер, нормалар, қүралдар мен іс-әрекеттер түрлерін мемлекеттік басқару жүйесі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628280"/>
            <a:ext cx="8561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ҚР ӨМЖ негізгі мақсаты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- өлшеу бірлігін қамтамасыз ету бойынша міндеттерді шешуге арналған кұқықты, нормативті, үйымдастыру, техникалық ж</a:t>
            </a:r>
            <a:r>
              <a:rPr b="1" lang="kk-KZ" sz="4000" spc="-1" strike="noStrike">
                <a:solidFill>
                  <a:srgbClr val="ffffff"/>
                </a:solidFill>
                <a:latin typeface="Times New Roman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е экономикалық шарттарды құрастыру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60280"/>
            <a:ext cx="82072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00"/>
                </a:solidFill>
                <a:latin typeface="Times New Roman"/>
              </a:rPr>
              <a:t>ҚР ӨБМҚЖ негізгі мақсатары мен принциптер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4T10:16:47Z</dcterms:created>
  <dc:creator>Мади</dc:creator>
  <dc:description/>
  <dc:language>en-US</dc:language>
  <cp:lastModifiedBy>User</cp:lastModifiedBy>
  <dcterms:modified xsi:type="dcterms:W3CDTF">2012-05-28T09:35:14Z</dcterms:modified>
  <cp:revision>7</cp:revision>
  <dc:subject/>
  <dc:title>Таќырыбы:</dc:title>
</cp:coreProperties>
</file>